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3429-65E3-44D0-8A2B-C704CCC49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17CD-C01D-45D4-86C5-12EE2C630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8F6-A26F-40D9-9F37-20D6770D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285160"/>
            <a:ext cx="822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7166-CD96-42D9-B71D-018174A5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BC1-22B8-4BBC-8291-A092AC37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1333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1333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2851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52851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5285160"/>
            <a:ext cx="264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0378-22C4-44E4-930B-1ADE56D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1333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FAE-1630-4998-8AFD-108236E5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68D7-096F-4378-9507-1F518B3E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A8F-E57D-4F92-9AE1-8B6CF043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37E-9C1C-4191-A701-078DEE55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6648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823-5392-4E4D-9739-438C6264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B71-3C91-44D1-9850-EE2166D9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52851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C64-9762-40D2-BE05-CB12C907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133360"/>
            <a:ext cx="40158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285160"/>
            <a:ext cx="82296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AA2-4763-4EAB-A47D-0FAF365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648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36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475480"/>
            <a:ext cx="2133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8475480"/>
            <a:ext cx="28958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8475480"/>
            <a:ext cx="2133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89C6-2513-469B-AB83-F57C5CC98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809880" y="60948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400800" y="190512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562720" y="495288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286000" y="525780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295280" y="1905120"/>
            <a:ext cx="1371600" cy="1371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1"/>
          <p:cNvCxnSpPr/>
          <p:nvPr/>
        </p:nvCxnSpPr>
        <p:spPr>
          <a:xfrm>
            <a:off x="5334120" y="1066320"/>
            <a:ext cx="121968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12"/>
          <p:cNvCxnSpPr/>
          <p:nvPr/>
        </p:nvCxnSpPr>
        <p:spPr>
          <a:xfrm flipH="1">
            <a:off x="6400080" y="3733560"/>
            <a:ext cx="686520" cy="1143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16"/>
          <p:cNvCxnSpPr/>
          <p:nvPr/>
        </p:nvCxnSpPr>
        <p:spPr>
          <a:xfrm flipH="1">
            <a:off x="3733560" y="5562720"/>
            <a:ext cx="1676880" cy="457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19"/>
          <p:cNvCxnSpPr/>
          <p:nvPr/>
        </p:nvCxnSpPr>
        <p:spPr>
          <a:xfrm flipH="1" flipV="1">
            <a:off x="1980360" y="3809160"/>
            <a:ext cx="686520" cy="129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7"/>
          <p:cNvCxnSpPr/>
          <p:nvPr/>
        </p:nvCxnSpPr>
        <p:spPr>
          <a:xfrm flipV="1">
            <a:off x="2209680" y="990360"/>
            <a:ext cx="15249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41360" y="7848720"/>
            <a:ext cx="1235160" cy="9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rcRect l="28353" t="21449" r="6189" b="20402"/>
          <a:stretch/>
        </p:blipFill>
        <p:spPr>
          <a:xfrm>
            <a:off x="2422440" y="7848720"/>
            <a:ext cx="1235160" cy="93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3"/>
          <a:stretch/>
        </p:blipFill>
        <p:spPr>
          <a:xfrm>
            <a:off x="4403880" y="7924680"/>
            <a:ext cx="1234800" cy="925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6080040" y="8001000"/>
            <a:ext cx="123516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5"/>
          <a:stretch/>
        </p:blipFill>
        <p:spPr>
          <a:xfrm>
            <a:off x="7696080" y="7924680"/>
            <a:ext cx="1235160" cy="925560"/>
          </a:xfrm>
          <a:prstGeom prst="rect">
            <a:avLst/>
          </a:prstGeom>
          <a:ln w="0">
            <a:noFill/>
          </a:ln>
        </p:spPr>
      </p:pic>
      <p:sp>
        <p:nvSpPr>
          <p:cNvPr id="63" name="TextBox 38"/>
          <p:cNvSpPr/>
          <p:nvPr/>
        </p:nvSpPr>
        <p:spPr>
          <a:xfrm>
            <a:off x="3809880" y="198108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9"/>
          <p:cNvSpPr/>
          <p:nvPr/>
        </p:nvSpPr>
        <p:spPr>
          <a:xfrm>
            <a:off x="6400800" y="3276720"/>
            <a:ext cx="137160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Spr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0"/>
          <p:cNvSpPr/>
          <p:nvPr/>
        </p:nvSpPr>
        <p:spPr>
          <a:xfrm>
            <a:off x="5562720" y="632448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1"/>
          <p:cNvSpPr/>
          <p:nvPr/>
        </p:nvSpPr>
        <p:spPr>
          <a:xfrm>
            <a:off x="2286000" y="662940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 Fl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3"/>
          <p:cNvSpPr/>
          <p:nvPr/>
        </p:nvSpPr>
        <p:spPr>
          <a:xfrm>
            <a:off x="1295280" y="3276720"/>
            <a:ext cx="13716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Pump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4"/>
          <p:cNvSpPr/>
          <p:nvPr/>
        </p:nvSpPr>
        <p:spPr>
          <a:xfrm>
            <a:off x="3352680" y="2862360"/>
            <a:ext cx="221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fe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mp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5"/>
          <p:cNvSpPr/>
          <p:nvPr/>
        </p:nvSpPr>
        <p:spPr>
          <a:xfrm>
            <a:off x="6553080" y="228600"/>
            <a:ext cx="243864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7:58:52Z</dcterms:created>
  <dc:creator>Vicky Sedgwick</dc:creator>
  <dc:description>Adapted from a  lesson plan by Heidi Pence
http://www.waupaca.k12.wi.us/faculty/hpence/</dc:description>
  <dc:language>en-US</dc:language>
  <cp:lastModifiedBy>Sedgwick</cp:lastModifiedBy>
  <dcterms:modified xsi:type="dcterms:W3CDTF">2010-10-21T16:20:58Z</dcterms:modified>
  <cp:revision>11</cp:revision>
  <dc:subject>Science</dc:subject>
  <dc:title>Pumpkin Life Cycle - Kindergarten</dc:title>
</cp:coreProperties>
</file>